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CC4B9-9F2E-45FD-B2DC-8D9E1288F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80CA5-90FC-4C8A-81C3-0A7BD1A2D8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Zadatak preventivne ortopedije je da stvori optimalne uslove za pravilan razvitak organa za žvakan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Zadatak interceptivne ortodoncije je da koriguje ili zaustavi formiranje ortodontstkih nepravilnosti u njihovom početnom stadijum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42D0A-56D0-4CD1-99F9-2F1B4683B0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916A3-C7BC-40C2-9D04-1EBF40639A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965F6-6A6D-44B9-B937-C99A061EA6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EB37D-F5EC-4E8D-A17A-29FB727B72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F8CB8-AF7C-494A-9F3E-1930605898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1D1F4-44A4-4989-BE2D-73B91AF173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44702-C4F0-4C8A-946D-FD9BD812EB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55F8-D659-407B-BB72-33852693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8F4B-EEDF-46CC-8DFB-38311D6B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F23-E9EA-41D1-8B91-A7A41C73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1408-31CC-4674-BB49-96C0A15E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EB8-6316-43DA-971F-B005C37E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7F62-D1A1-4092-9B1C-A9698ADF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4832-FB19-4A2B-85BC-D6E8E681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97F-C627-4018-A8D7-B5D2CAE7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9C51-4EA0-4567-B1A4-499753B0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E5DB-6759-41E1-8228-9109FDC1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562-D7A1-49E0-8B0F-B531BE77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EB0-6552-40DA-88D9-9CDD3E7B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0D31B-4990-49FE-A888-A2A8955B562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3133800"/>
            <a:ext cx="9713880" cy="19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Trebuchet MS"/>
              </a:rPr>
              <a:t>ORALNO ZDRAVLJE OSOBA SA POSEBNIM POTREBAMA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3964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83720" y="2957400"/>
            <a:ext cx="609840" cy="2324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00120" y="1504800"/>
            <a:ext cx="971712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REVENTIVN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539720" y="1814400"/>
            <a:ext cx="1219320" cy="1003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: Rounded Corners 8"/>
          <p:cNvSpPr/>
          <p:nvPr/>
        </p:nvSpPr>
        <p:spPr>
          <a:xfrm>
            <a:off x="9596520" y="138240"/>
            <a:ext cx="23065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13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639720" y="879480"/>
            <a:ext cx="739944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rogrami zdravstvene zaštite obuhvataju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Tačno definisanje ciljeva program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Definisanje ciljne populacij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Organizacija program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Edukaci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raćenje i evaluacija program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Izbor nosilaca program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39720" y="1239840"/>
            <a:ext cx="1101564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Većina studija ipak pokazuje da osobe sa invaliditetom imaju znatno veći stepen nesaniranih oralnih stanja u poređenju sa opštom populacijo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Rizici za oralno zdravlje kod dece sa invaliditetom nastaju zbog nemogućnosti razvijanja veština i sticanja znanja,kao i nerazumevanja značaja čuvanja oralnog zdravl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639720" y="1239840"/>
            <a:ext cx="1101564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Ciljne populacije su izrazito heterogene i međusobno različite i zato ne postoji jedan preventivni program kojim bi svi bili obuhvaćeni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ostoje sledeće vrste populacija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osobe sa mentalnom retardacijo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medicinski kompromitovani pacijent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osobe sa kraniofacijalnim anomalijam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639720" y="1239840"/>
            <a:ext cx="1101564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Individualni preventivni program </a:t>
            </a: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za prevenciju oralnih oboljenja u osoba sa posebnim potrebama predstavlja jasno definisanu primenu specifičnih mera i aktivnosti primarne prevencije prilagođene vrsti i stepenu ometenosti, vrsti i načinu izvođenja, kao i obuci prilagođavanja mogućnostima, prijema informacija i izvršavanja pojedinih radnji od strane oseba sa posebnim potrebama ili njihovih roditelja i staratelj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639720" y="1239840"/>
            <a:ext cx="1101564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Kod </a:t>
            </a: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slabovide dece </a:t>
            </a: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treba koristiti glas i audio zapise kao osnovno sredstvo komunikacij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Tekst i slike propagandnog materijala koji se tom prilikom koristi treba da bude krupnijeg formata od uobičajenih, sa većim slikama jarkih boja i tekstom napisanim većim slovim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Takođe se u radu sa ovim osobama mogu koristiti uveličavajuće lupe i uveličavajuća ogledala (za demonstraciju pravilnog četkanja zuba), kao i čulo dodira (da opipaju radne modele, četkicu za zube, pastu i dr.) ili mirisa (da osete, omirišu i prepoznaju čista usta posle pranja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639720" y="1239840"/>
            <a:ext cx="1101564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Za decu sa </a:t>
            </a: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poremećajima sluha </a:t>
            </a: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reporučuje se jasan, sporiji, razgovetan i nešto glasniji govor praćen pantomimom i demonstracijom. S obzirom da većina ove dece ima sposobnost čitanja sa usana važno je da osoba koja se bavi individualnim zdravstveno-vaspitnim radom stoji ispred deteta tj. „licem u lice“. Vrlo uspešno se može koristiti komunikacija putem slika i crteža, a kod dece koja znaju da pišu i čitaju, pisanom reči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639720" y="1239840"/>
            <a:ext cx="1101564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Deci sa </a:t>
            </a: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mentalnom retardacijom </a:t>
            </a: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je nemoguće bilo šta objasniti jer ne mogu da prate i shvate šta im se govori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S obzirom na specifičnost različitih kategorija hendikepirane dece individualni zdravstveno vaspitni rad kod ovih osoba zahteva i multidisciplinarnu saradnju stomatologa sa pedijatrom, neuropsihijatrom, psihologom, logopedom, vaspitačem, a posebno sa roditeljima ili starateljim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9:32:28Z</dcterms:modified>
  <cp:revision>519</cp:revision>
  <dc:subject/>
  <dc:title>RTG U DEČJOJ STOMATOLOGIJI</dc:title>
</cp:coreProperties>
</file>